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2.pct" ContentType="image/x-pict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1.pct" ContentType="image/x-pict"/>
  <Override PartName="/ppt/media/image34.png" ContentType="image/png"/>
  <Override PartName="/ppt/media/image12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6580-2366-4A3A-BFE6-9CA4BFBAB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B511-CA26-4999-9481-650D4C8F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354-30AB-46A9-8C96-D7B424944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A61-868B-45BF-9E00-59B03CBB7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A2EC-92DA-4A11-B9A6-90CF0AB7C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79C-B580-48DC-9275-8602F1886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FBF-A08B-45C3-8A9A-3F22185B6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E3B-30A7-49DE-BCAC-9247C8C6C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F5A-19F1-43C2-B73E-156BDC5EB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77F2-53B8-45E3-B6C7-64439AA02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2E80-E032-4134-9B86-378B758EC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7FEE-363A-46E7-BAB2-DFC30D88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9C0-0886-46E8-8077-3D548D103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DD86-CD0E-486A-B906-3CAC0804F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6E5-4651-4ED1-B29E-DF7F87F7C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30A-6407-4191-B3BC-E9FAFB90C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E3F2-4618-4664-B13A-A445CB734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9EA-43EE-42B1-97A4-140A87B58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071-53FA-437C-A689-6954B3F42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297-C53D-4887-83F5-0B4E65BDD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C21-0FE1-4800-8DBA-0B5DAE0E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4F-B50D-4155-B0DD-6006C619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DF1-9100-4510-8E09-2D62C796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541-FF24-4BD5-836C-AD700620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7A26-52BC-46D1-B6DD-276243EF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0A3-EBDE-4681-AFF3-D8B06BB9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728-8230-4A19-90DF-1CA43DB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638B-0F3F-4E45-A028-B2C85BE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491-6012-4874-BFF0-EF90711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BDBA-0CF9-43C5-86F1-E70AEAC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A15-F65A-4A68-A990-301DCCE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4FD-0B48-45C4-B462-E141A2C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74B2-4594-4AB2-8E16-90BF0C8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BC0-402F-4F7C-B3FE-0A82BE4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A22-E5B1-46F7-8E3A-6B9A37C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4C61-6069-477F-94EB-01FBC430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662-90A2-47DD-824E-E35CF0F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CD17-5102-4E3C-BFEC-5C23257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FED3-9C7C-42CD-9735-8713680A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87C1-3450-4B80-B904-0E99324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602F-A0CF-44D1-AB6A-C8B55AD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F667-85E0-4F48-B250-77623FE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D31-0FC8-471E-9733-C8BCF9C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415A-0C6E-410E-8B6D-735860F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438E-B566-432B-8D65-5D05F24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EA42-2B70-4010-BEB4-FCF3191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2055-8832-49D3-8C8A-E48AC0E6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73AA-84CA-4936-8514-3304179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1529-E1E9-493B-9637-363B645F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699D-FFF2-432F-8823-18D2ADC7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7FE34-91AC-4C0A-A32D-BA3C061F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DE13-96CA-4AF4-9D34-ADB557AE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16A9-D846-45C9-83E4-0676840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6FF-9718-4C75-B555-4C86B7CF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48DC-E3FD-4ED1-8B8A-E3CADCA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80B5-6990-410A-8299-8D51339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96FE-CB96-4C4D-A2B4-443FD3C6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ABFBE-7C0F-4C39-84F9-83DC895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9D37-8117-4F98-B41F-1BFFC31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2FF1-DBCE-46FD-99FD-9B4CDC2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67816-590E-46A7-B493-7B1901E2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23D7-B4EE-4F55-A521-539CBEB2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ED26-21C9-461A-B9D1-D179C766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FD3D-64DC-4AD8-A99A-C7FF75E8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7CF-50D6-4963-AFF6-56CF556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C4E5-00B6-41BF-98C3-4705F7C6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1D7F-D788-4E0A-B41F-CA8B65E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4190-26F9-49E2-B461-9952E3F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3F89-F120-4824-96E0-1561A50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9F8C-9983-4D35-8ED5-D4CC13A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F2F5-1CD3-4657-87A6-8329D6A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32B3-BA38-4122-8409-ABC6F75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6BC8-DFFD-4C8E-BB50-2A6EB28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1B460-0E66-4024-BFB6-92F1CC2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BBB7-07F2-4410-B5D1-6B9B9F31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D57-FB2D-4A3A-8F26-DBD0EE0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6D39-619E-424A-B7CF-8E66A17D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FC07-0123-4933-B4C0-92317563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83940-89A3-4B1D-83AF-C291AB2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09AE-A1DC-4894-A421-33B2312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00CA-F68D-4A41-9068-A96562B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4B8B-3F14-4C2E-B746-BB442BE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B231-50E5-42B5-8D01-56AFCB7A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9D3A-8C8E-4D53-8BE9-6931A95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B11A-CFFC-4831-9A9D-F046D7F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DC000-72AA-4093-B423-33F8021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AF4-480B-492E-84C9-E800AF3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D7A2-00E4-471D-A299-C9E73DA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091CC-F165-4CAF-9CD5-DA3011A4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96F1-4A73-4D1B-95B3-5C358728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201-D234-4F70-A747-AC61948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7E0A-FE4A-41F0-B01B-686C338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82E9-5421-45BE-AA5D-CBED038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E934-23C8-4054-9A53-2907270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316D-0CF6-45BF-83C3-F9455EC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8B7C0-1F7A-404B-8A72-7CD34F3D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C27-93E2-407B-BDB0-BE43B7D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10EA-732B-4097-98D9-093E8E14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355A-37C4-4C35-910A-3A625BB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907A-C33C-4EB3-AEF6-042BF32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4810-8D12-432B-A823-EF133B09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0EB9-92B9-471C-BC91-35A1172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E0126-75F8-4352-BBFB-06780796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484E-B065-4F4A-8A2C-AD1998D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558A-D501-4E34-AB55-4399D9594C72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5E23-C77F-4FD3-B6AB-219E9454CE88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53C-E722-426B-BD2B-FAB3F292582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69E1-5D1C-4019-977E-25F59A459E0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92" name="Picture 7" descr="Flag.jpg"/>
          <p:cNvPicPr/>
          <p:nvPr/>
        </p:nvPicPr>
        <p:blipFill>
          <a:blip r:embed="rId3"/>
          <a:stretch/>
        </p:blipFill>
        <p:spPr>
          <a:xfrm>
            <a:off x="6804000" y="0"/>
            <a:ext cx="1049400" cy="76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9" descr="torah.jpg"/>
          <p:cNvPicPr/>
          <p:nvPr/>
        </p:nvPicPr>
        <p:blipFill>
          <a:blip r:embed="rId4"/>
          <a:stretch/>
        </p:blipFill>
        <p:spPr>
          <a:xfrm>
            <a:off x="7924680" y="0"/>
            <a:ext cx="935280" cy="81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W Wailing Wall.jpg"/>
          <p:cNvPicPr/>
          <p:nvPr/>
        </p:nvPicPr>
        <p:blipFill>
          <a:blip r:embed="rId5"/>
          <a:stretch/>
        </p:blipFill>
        <p:spPr>
          <a:xfrm>
            <a:off x="7924680" y="990720"/>
            <a:ext cx="99396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Abraham.jpg"/>
          <p:cNvPicPr/>
          <p:nvPr/>
        </p:nvPicPr>
        <p:blipFill>
          <a:blip r:embed="rId6"/>
          <a:stretch/>
        </p:blipFill>
        <p:spPr>
          <a:xfrm>
            <a:off x="8077320" y="1981080"/>
            <a:ext cx="787320" cy="97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AB7-37DA-440E-B870-9A10C78E8C78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5F3-CDCC-4A21-8EB8-AB8D521AB2A8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A81-4D18-40C5-8D4A-1217C42F1C08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80BD-AD3B-4121-85B1-18F23311E44B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4A3-EE9E-4DBE-B3F1-AAFB9255A795}" type="datetime">
              <a:rPr b="0" lang="en-US" sz="1000" spc="-1" strike="noStrike">
                <a:solidFill>
                  <a:srgbClr val="eeece1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2E7B-4B9F-4AD0-BA6D-FFAD451A62FC}" type="slidenum"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AE1A-CE17-4979-A5B0-138FAB2075CE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2556-23E6-494C-B8E2-2B222C1F8DB2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2" name="Picture 3" descr=""/>
          <p:cNvPicPr/>
          <p:nvPr/>
        </p:nvPicPr>
        <p:blipFill>
          <a:blip r:embed="rId3"/>
          <a:stretch/>
        </p:blipFill>
        <p:spPr>
          <a:xfrm>
            <a:off x="676440" y="1335240"/>
            <a:ext cx="7791120" cy="2938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EB4C-178E-404F-AF6A-82509CA6507F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696-8BC3-4225-8439-3E17A3273DD4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7" descr="Purple Wall.jpg"/>
          <p:cNvPicPr/>
          <p:nvPr/>
        </p:nvPicPr>
        <p:blipFill>
          <a:blip r:embed="rId1"/>
          <a:stretch/>
        </p:blipFill>
        <p:spPr>
          <a:xfrm>
            <a:off x="0" y="0"/>
            <a:ext cx="7162920" cy="5372280"/>
          </a:xfrm>
          <a:prstGeom prst="rect">
            <a:avLst/>
          </a:prstGeom>
          <a:ln w="0">
            <a:noFill/>
          </a:ln>
        </p:spPr>
      </p:pic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268200" y="5224320"/>
            <a:ext cx="6145200" cy="798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4560" y="5952600"/>
            <a:ext cx="601956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5943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BUBBLU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6" name="Picture 19" descr="rabbi.jpg"/>
          <p:cNvPicPr/>
          <p:nvPr/>
        </p:nvPicPr>
        <p:blipFill>
          <a:blip r:embed="rId3"/>
          <a:stretch/>
        </p:blipFill>
        <p:spPr>
          <a:xfrm>
            <a:off x="6553080" y="13716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Happy.jpg"/>
          <p:cNvPicPr/>
          <p:nvPr/>
        </p:nvPicPr>
        <p:blipFill>
          <a:blip r:embed="rId4"/>
          <a:stretch/>
        </p:blipFill>
        <p:spPr>
          <a:xfrm>
            <a:off x="4724280" y="4724280"/>
            <a:ext cx="2681280" cy="18288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4920" y="388584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418752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449244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the fulfillment of a commandment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 this case, the first commandment of the Torah: “Be fruitful and multiply” as it related to marriage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ere the wedding symbolizes the transition from the basic Jewish institution of home and to the responsibility for the welfare of the communit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st the belief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sso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commemorates the Exodus from Egypt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celebrated for 7-8 days, usually over Easte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breads and grains are avoided during this   holiday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law prevents people going to work or school during the first two and last two days of Passover.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0" name="Picture 4" descr="meal"/>
          <p:cNvPicPr/>
          <p:nvPr/>
        </p:nvPicPr>
        <p:blipFill>
          <a:blip r:embed="rId1"/>
          <a:stretch/>
        </p:blipFill>
        <p:spPr>
          <a:xfrm>
            <a:off x="6018120" y="0"/>
            <a:ext cx="3125880" cy="2060640"/>
          </a:xfrm>
          <a:prstGeom prst="rect">
            <a:avLst/>
          </a:prstGeom>
          <a:ln w="0">
            <a:noFill/>
          </a:ln>
        </p:spPr>
      </p:pic>
      <p:pic>
        <p:nvPicPr>
          <p:cNvPr id="441" name="WordArt 6" descr=""/>
          <p:cNvPicPr/>
          <p:nvPr/>
        </p:nvPicPr>
        <p:blipFill>
          <a:blip r:embed="rId2"/>
          <a:stretch/>
        </p:blipFill>
        <p:spPr>
          <a:xfrm>
            <a:off x="219240" y="444600"/>
            <a:ext cx="5657760" cy="6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sh Hashan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New Ye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s make resolutions and reflect on the                     past ye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s begin making mental preparations for Yom Kippu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Worship takes place in the synagogu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44" name="Picture 4" descr="BD06455_"/>
          <p:cNvPicPr/>
          <p:nvPr/>
        </p:nvPicPr>
        <p:blipFill>
          <a:blip r:embed="rId1"/>
          <a:stretch/>
        </p:blipFill>
        <p:spPr>
          <a:xfrm>
            <a:off x="7086600" y="4038480"/>
            <a:ext cx="1889280" cy="18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day of atonement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a day of fasting and repentance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takes place in late September or early Octobe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most Jews take off from work and school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starts the evening before the day it is listed on the Secular calend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47" name="Picture 3" descr="BD08208_"/>
          <p:cNvPicPr/>
          <p:nvPr/>
        </p:nvPicPr>
        <p:blipFill>
          <a:blip r:embed="rId1"/>
          <a:stretch/>
        </p:blipFill>
        <p:spPr>
          <a:xfrm>
            <a:off x="7315200" y="3276720"/>
            <a:ext cx="1674720" cy="180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nukk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festival of lights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mmemorates the rededication of the temple of Jerusalem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menorah represents the one day’s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supply of oil that lasted the Jews eight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ays during their fight against the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Greeks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elebrated by lighting candles, playing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games for chocolate coins, eating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latkes, and the exchange of gifts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mongst immediate family member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50" name="Picture 3" descr="large menorah"/>
          <p:cNvPicPr/>
          <p:nvPr/>
        </p:nvPicPr>
        <p:blipFill>
          <a:blip r:embed="rId1"/>
          <a:stretch/>
        </p:blipFill>
        <p:spPr>
          <a:xfrm>
            <a:off x="6973920" y="0"/>
            <a:ext cx="2170080" cy="26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ahoma"/>
              </a:rPr>
              <a:t>“</a:t>
            </a:r>
            <a:r>
              <a:rPr b="1" lang="en-US" sz="2600" spc="-1" strike="noStrike">
                <a:solidFill>
                  <a:srgbClr val="333333"/>
                </a:solidFill>
                <a:latin typeface="Tahoma"/>
              </a:rPr>
              <a:t>For billions, Jerusalem is not just sand and stone but sacred--a place of the world, and beyond it. </a:t>
            </a:r>
            <a:r>
              <a:rPr b="0" lang="en-US" sz="2600" spc="-1" strike="noStrike">
                <a:solidFill>
                  <a:srgbClr val="333333"/>
                </a:solidFill>
                <a:latin typeface="Tahoma"/>
              </a:rPr>
              <a:t>One man, Jesus warned, cannot serve two masters. Yet Jerusalem is sacred stone and soil to Jew and Christian and Muslim alike” (Woodward, 2000, p.28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Tahoma"/>
              </a:rPr>
              <a:t>Judaism is a significant religion to many people around the world and has left its mark upon today’s wor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 must include information in their Bubblus to show mastery of the objectives set fort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 must show that they can create a graphic organizer to reveal their knowledge of the five categories presented in this PowerPoint on Judaism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80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You will be graded on the completion of your Bubblus and how accurately you include the information gathered from this PowerPoint and any other accurate sources that you read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Bubblus must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five categories/bubbles...........…25 pt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minimum of four bubbles off of the main categories/bubbles, thus creating subcategori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3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minimum of two bubbles off of the subcategories..............................…………...2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ccurate information.......……….......25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........................……………………….…10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3" descr=""/>
          <p:cNvPicPr/>
          <p:nvPr/>
        </p:nvPicPr>
        <p:blipFill>
          <a:blip r:embed="rId1"/>
          <a:stretch/>
        </p:blipFill>
        <p:spPr>
          <a:xfrm>
            <a:off x="457200" y="-3049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28240" y="914400"/>
            <a:ext cx="7467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llins, K. (2011).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he Torah in Modern Scholarship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Retrieved Octobe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9, 2011, from Ken Collins.com: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kencollins.com/bible/bible-p2.ht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shbane, M. (2011, Sept 22). The life cycle of holiness. Retrieved from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scheinerman.net/judaism/Rituals/index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ich, T. (2011). A Gentile’s guide to the Jewish Holidays. Judaism 101.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trieved November 1, 2011 from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jewfaq.org/holidayg.ht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he Torah: Five books of story, law, and property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(n.d.). Retrieved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ctober 29, 2011, from My Jewish Learning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myjewishlearning.com/texts/Bible/Torah.s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oodward, K. (2000). A city that echoes eternity. Newsweek. Vol. 136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ssue 4. Retrieved November 5th, 2011 from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eb.ebscohost.com.ezproxy.mtsu.edu/ehost/resultsadvanced?sid=49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6" descr="Woman.jpg"/>
          <p:cNvPicPr/>
          <p:nvPr/>
        </p:nvPicPr>
        <p:blipFill>
          <a:blip r:embed="rId1"/>
          <a:stretch/>
        </p:blipFill>
        <p:spPr>
          <a:xfrm>
            <a:off x="3200400" y="609480"/>
            <a:ext cx="990720" cy="10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Title 2" descr=""/>
          <p:cNvPicPr/>
          <p:nvPr/>
        </p:nvPicPr>
        <p:blipFill>
          <a:blip r:embed="rId2"/>
          <a:stretch/>
        </p:blipFill>
        <p:spPr>
          <a:xfrm>
            <a:off x="-36360" y="3638520"/>
            <a:ext cx="8126280" cy="2689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Wailing Wall.jpg"/>
          <p:cNvPicPr/>
          <p:nvPr/>
        </p:nvPicPr>
        <p:blipFill>
          <a:blip r:embed="rId3"/>
          <a:stretch/>
        </p:blipFill>
        <p:spPr>
          <a:xfrm>
            <a:off x="4419720" y="609480"/>
            <a:ext cx="137952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18" descr="Jews.jpg"/>
          <p:cNvPicPr/>
          <p:nvPr/>
        </p:nvPicPr>
        <p:blipFill>
          <a:blip r:embed="rId4"/>
          <a:stretch/>
        </p:blipFill>
        <p:spPr>
          <a:xfrm>
            <a:off x="4419720" y="1676520"/>
            <a:ext cx="1371600" cy="98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Picture 19" descr="Whitehouse.jpg"/>
          <p:cNvPicPr/>
          <p:nvPr/>
        </p:nvPicPr>
        <p:blipFill>
          <a:blip r:embed="rId5"/>
          <a:stretch/>
        </p:blipFill>
        <p:spPr>
          <a:xfrm>
            <a:off x="3200400" y="1752480"/>
            <a:ext cx="106848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te the significance of Juda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ll what Judaism means to yo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derstand the main doctrine that Judaism is focused on: The Tora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familiar with major events that took place shaping Juda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rehend Jewish practices and law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now the major beliefs that govern Juda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now the main holidays that Jews celebr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609560"/>
            <a:ext cx="7391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word Torah is Hebrew for ‘teaching’ or ‘law’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first five books of the Bible are called the Tora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rah can also refer to all Jewish law and teaching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es wrote the Tora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Torah rete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creation of the worl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The selection and growth of the family of Abraham and Sarah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The exile and redemption from Egypt of that “family –become-nation” known as Israel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Israel’s wanderings through the desert until they return to the land of Canaan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Israel’s covenanted relationship with Go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 rules for governing a just society an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rules for establishing appropriate worship.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ke a timeline of the important historical ev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4" name="Group 85" descr=""/>
          <p:cNvPicPr/>
          <p:nvPr/>
        </p:nvPicPr>
        <p:blipFill>
          <a:blip r:embed="rId2"/>
          <a:stretch/>
        </p:blipFill>
        <p:spPr>
          <a:xfrm>
            <a:off x="384120" y="3206880"/>
            <a:ext cx="8375760" cy="24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09200"/>
            <a:ext cx="723888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ritual and religious observances are grounded in Jewish Law,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Halakhah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the path one walks”.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low are the three most common Jewish practices observ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t Mil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r Mitzv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tzv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685800" y="59324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isit Rabbi Scheinerman’s Judaism website to discover other Jewish practic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9200"/>
            <a:ext cx="723888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Covenant of Circumcisio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is ceremony confirms the transition of the male infant from being a child of Adam, to a member of the Jewish people thus entering the “covenant of Abraham”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Upon the birth of a male child, circumcision can be expected before 8 days has expired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0" name="TextBox 1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son of the commandments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om youth, a boy will not formally be a member of the Halakhic community until he turns thirtee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is ceremony bestows full responsibility and devotion on learning the Torah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ame ceremony for girls is called </a:t>
            </a:r>
            <a:r>
              <a:rPr b="0" i="1" lang="en-US" sz="2300" spc="-1" strike="noStrike">
                <a:solidFill>
                  <a:srgbClr val="6c6c6c"/>
                </a:solidFill>
                <a:latin typeface="Trebuchet MS"/>
              </a:rPr>
              <a:t>bat mitzvah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 meaning “daughter of the commandments”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  Rafacz</cp:lastModifiedBy>
  <dcterms:modified xsi:type="dcterms:W3CDTF">2011-11-05T14:46:45Z</dcterms:modified>
  <cp:revision>9</cp:revision>
  <dc:subject/>
  <dc:title>PowerPoint Presentation</dc:title>
</cp:coreProperties>
</file>